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C0F-C412-4EAF-8FEF-A6F6BA82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325-334C-48F2-9566-6DB06D98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381-E18A-4FEF-8B58-DD233F96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782-E3A8-43EE-BEE1-6D89ECEA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4D9-2780-4DBB-B19A-462E0767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87A-2691-4B33-9487-40F51492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521-6BC8-4224-9A60-1A93B831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211-F78D-4C33-AD90-567E6241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423-F356-4DAB-9BB4-682CA94E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7A1-ED7A-4CDA-B7A9-E7F79C4F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F12-F738-4277-95C4-FBF4A316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565-0B1E-4BB7-A88B-FA5912AE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2895-B258-4A79-8E9D-3D6F261BB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19051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88000" y="2286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1640" y="20890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6880" y="2895480"/>
            <a:ext cx="37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ystem so that like terms ar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13280" y="3067200"/>
            <a:ext cx="3769920" cy="840600"/>
            <a:chOff x="1313280" y="3067200"/>
            <a:chExt cx="3769920" cy="840600"/>
          </a:xfrm>
        </p:grpSpPr>
        <p:sp>
          <p:nvSpPr>
            <p:cNvPr id="159" name=""/>
            <p:cNvSpPr/>
            <p:nvPr/>
          </p:nvSpPr>
          <p:spPr>
            <a:xfrm>
              <a:off x="1313280" y="30956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87760" y="3448080"/>
              <a:ext cx="18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66880" y="306720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546880" y="35971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e equations to eliminate the x-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89160" y="3886200"/>
            <a:ext cx="3670200" cy="459720"/>
            <a:chOff x="1289160" y="3886200"/>
            <a:chExt cx="3670200" cy="459720"/>
          </a:xfrm>
        </p:grpSpPr>
        <p:sp>
          <p:nvSpPr>
            <p:cNvPr id="164" name=""/>
            <p:cNvSpPr/>
            <p:nvPr/>
          </p:nvSpPr>
          <p:spPr>
            <a:xfrm>
              <a:off x="2590920" y="388620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89160" y="3886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7080" y="388620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328920" y="4343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48680" y="44956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0480" y="51055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395520" y="4981680"/>
            <a:ext cx="1500480" cy="1193040"/>
            <a:chOff x="3395520" y="4981680"/>
            <a:chExt cx="1500480" cy="119304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3395520" y="4981680"/>
              <a:ext cx="120024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524400" y="5715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37920" y="1828800"/>
            <a:ext cx="27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175248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0200" y="251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360" y="255744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4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28954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4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423880" y="2819520"/>
            <a:ext cx="2209680" cy="840600"/>
            <a:chOff x="2423880" y="2819520"/>
            <a:chExt cx="2209680" cy="840600"/>
          </a:xfrm>
        </p:grpSpPr>
        <p:grpSp>
          <p:nvGrpSpPr>
            <p:cNvPr id="180" name=""/>
            <p:cNvGrpSpPr/>
            <p:nvPr/>
          </p:nvGrpSpPr>
          <p:grpSpPr>
            <a:xfrm>
              <a:off x="2423880" y="2819520"/>
              <a:ext cx="2209680" cy="459720"/>
              <a:chOff x="2423880" y="2819520"/>
              <a:chExt cx="2209680" cy="459720"/>
            </a:xfrm>
          </p:grpSpPr>
          <p:sp>
            <p:nvSpPr>
              <p:cNvPr id="181" name=""/>
              <p:cNvSpPr/>
              <p:nvPr/>
            </p:nvSpPr>
            <p:spPr>
              <a:xfrm>
                <a:off x="2506680" y="28195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4            –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23880" y="3200400"/>
                <a:ext cx="533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00400" y="3200400"/>
                <a:ext cx="5331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306240" y="320040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080320" y="35812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33880" y="3657600"/>
            <a:ext cx="1571400" cy="1221840"/>
            <a:chOff x="3233880" y="3657600"/>
            <a:chExt cx="1571400" cy="1221840"/>
          </a:xfrm>
        </p:grpSpPr>
        <p:sp>
          <p:nvSpPr>
            <p:cNvPr id="187" name=""/>
            <p:cNvSpPr/>
            <p:nvPr/>
          </p:nvSpPr>
          <p:spPr>
            <a:xfrm>
              <a:off x="3306240" y="365760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33880" y="40672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40672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49440" y="399420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    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79680" y="441972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076720" y="474012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303560" y="4952880"/>
            <a:ext cx="2353680" cy="459720"/>
            <a:chOff x="1303560" y="4952880"/>
            <a:chExt cx="2353680" cy="459720"/>
          </a:xfrm>
        </p:grpSpPr>
        <p:sp>
          <p:nvSpPr>
            <p:cNvPr id="194" name=""/>
            <p:cNvSpPr/>
            <p:nvPr/>
          </p:nvSpPr>
          <p:spPr>
            <a:xfrm>
              <a:off x="1303560" y="49528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31960" y="4952880"/>
              <a:ext cx="102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8080" y="1523880"/>
            <a:ext cx="769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wo equations each contain the same term, you can subtract one equation from the other to solve the system. To subtract an equation add the opposite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51120" y="19051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88000" y="2286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1640" y="20574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Elimination Using 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209320" y="3200400"/>
            <a:ext cx="228600" cy="914400"/>
            <a:chOff x="2209320" y="3200400"/>
            <a:chExt cx="228600" cy="914400"/>
          </a:xfrm>
        </p:grpSpPr>
        <p:sp>
          <p:nvSpPr>
            <p:cNvPr id="203" name=""/>
            <p:cNvSpPr/>
            <p:nvPr/>
          </p:nvSpPr>
          <p:spPr>
            <a:xfrm flipH="1">
              <a:off x="2209320" y="32004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09680" y="32004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09680" y="4114800"/>
              <a:ext cx="19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105160" y="3581280"/>
            <a:ext cx="228960" cy="914400"/>
            <a:chOff x="5105160" y="3581280"/>
            <a:chExt cx="228960" cy="914400"/>
          </a:xfrm>
        </p:grpSpPr>
        <p:sp>
          <p:nvSpPr>
            <p:cNvPr id="207" name=""/>
            <p:cNvSpPr/>
            <p:nvPr/>
          </p:nvSpPr>
          <p:spPr>
            <a:xfrm>
              <a:off x="5105520" y="35812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34120" y="3581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105160" y="44956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562720" y="3276720"/>
            <a:ext cx="35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opposite of each term in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8280" y="30034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69960" y="33526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8954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 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8386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14960" y="3809880"/>
            <a:ext cx="2590560" cy="840600"/>
            <a:chOff x="2514960" y="3809880"/>
            <a:chExt cx="2590560" cy="840600"/>
          </a:xfrm>
        </p:grpSpPr>
        <p:sp>
          <p:nvSpPr>
            <p:cNvPr id="216" name=""/>
            <p:cNvSpPr/>
            <p:nvPr/>
          </p:nvSpPr>
          <p:spPr>
            <a:xfrm>
              <a:off x="2562480" y="380988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 y 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13240" y="4190760"/>
              <a:ext cx="21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61952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563440" y="464832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Eliminate the x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64520" y="50292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44920" y="4619520"/>
            <a:ext cx="4376160" cy="459720"/>
            <a:chOff x="844920" y="4619520"/>
            <a:chExt cx="4376160" cy="459720"/>
          </a:xfrm>
        </p:grpSpPr>
        <p:sp>
          <p:nvSpPr>
            <p:cNvPr id="222" name=""/>
            <p:cNvSpPr/>
            <p:nvPr/>
          </p:nvSpPr>
          <p:spPr>
            <a:xfrm>
              <a:off x="2652480" y="4619520"/>
              <a:ext cx="25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+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4920" y="461952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429000" y="5029200"/>
            <a:ext cx="1795320" cy="872640"/>
            <a:chOff x="3429000" y="5029200"/>
            <a:chExt cx="1795320" cy="872640"/>
          </a:xfrm>
        </p:grpSpPr>
        <p:sp>
          <p:nvSpPr>
            <p:cNvPr id="225" name=""/>
            <p:cNvSpPr/>
            <p:nvPr/>
          </p:nvSpPr>
          <p:spPr>
            <a:xfrm>
              <a:off x="3429000" y="5029200"/>
              <a:ext cx="17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65240" y="544212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72040" y="190512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70040" y="1981080"/>
            <a:ext cx="3741480" cy="459720"/>
            <a:chOff x="770040" y="1981080"/>
            <a:chExt cx="3741480" cy="459720"/>
          </a:xfrm>
        </p:grpSpPr>
        <p:sp>
          <p:nvSpPr>
            <p:cNvPr id="230" name=""/>
            <p:cNvSpPr/>
            <p:nvPr/>
          </p:nvSpPr>
          <p:spPr>
            <a:xfrm>
              <a:off x="770040" y="1981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5560" y="198108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00200" y="243828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–3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83200" y="270972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  <a:ea typeface="Arial"/>
              </a:rPr>
              <a:t>–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3480" y="32767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3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55680" y="28954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06760" y="3308400"/>
            <a:ext cx="1523880" cy="459720"/>
            <a:chOff x="2606760" y="3308400"/>
            <a:chExt cx="1523880" cy="459720"/>
          </a:xfrm>
        </p:grpSpPr>
        <p:sp>
          <p:nvSpPr>
            <p:cNvPr id="237" name=""/>
            <p:cNvSpPr/>
            <p:nvPr/>
          </p:nvSpPr>
          <p:spPr>
            <a:xfrm>
              <a:off x="2759760" y="330840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3     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06760" y="37339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97120" y="373392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345040" y="38862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  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74200" y="38862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441972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2040" y="489276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70040" y="4876920"/>
            <a:ext cx="2526840" cy="459720"/>
            <a:chOff x="770040" y="4876920"/>
            <a:chExt cx="2526840" cy="459720"/>
          </a:xfrm>
        </p:grpSpPr>
        <p:sp>
          <p:nvSpPr>
            <p:cNvPr id="245" name=""/>
            <p:cNvSpPr/>
            <p:nvPr/>
          </p:nvSpPr>
          <p:spPr>
            <a:xfrm>
              <a:off x="770040" y="487692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19320" y="4876920"/>
              <a:ext cx="11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685800" y="2209680"/>
            <a:ext cx="7854480" cy="1282680"/>
            <a:chOff x="685800" y="2209680"/>
            <a:chExt cx="7854480" cy="1282680"/>
          </a:xfrm>
        </p:grpSpPr>
        <p:sp>
          <p:nvSpPr>
            <p:cNvPr id="248" name=""/>
            <p:cNvSpPr/>
            <p:nvPr/>
          </p:nvSpPr>
          <p:spPr>
            <a:xfrm>
              <a:off x="691920" y="2666880"/>
              <a:ext cx="784836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emember to check by substituting your answer into both original equ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" y="220968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6002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51120" y="160020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44520" y="19810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26720" y="178128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2666880"/>
            <a:ext cx="4495680" cy="840960"/>
            <a:chOff x="457200" y="2666880"/>
            <a:chExt cx="4495680" cy="840960"/>
          </a:xfrm>
        </p:grpSpPr>
        <p:sp>
          <p:nvSpPr>
            <p:cNvPr id="256" name=""/>
            <p:cNvSpPr/>
            <p:nvPr/>
          </p:nvSpPr>
          <p:spPr>
            <a:xfrm>
              <a:off x="2536920" y="266688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96000" y="30481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" y="26668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52480" y="2895480"/>
            <a:ext cx="685440" cy="914400"/>
            <a:chOff x="1752480" y="2895480"/>
            <a:chExt cx="685440" cy="914400"/>
          </a:xfrm>
        </p:grpSpPr>
        <p:sp>
          <p:nvSpPr>
            <p:cNvPr id="260" name=""/>
            <p:cNvSpPr/>
            <p:nvPr/>
          </p:nvSpPr>
          <p:spPr>
            <a:xfrm flipH="1">
              <a:off x="1752480" y="2895480"/>
              <a:ext cx="68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52480" y="28954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2480" y="3809880"/>
              <a:ext cx="58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952520" y="3276720"/>
            <a:ext cx="228960" cy="914400"/>
            <a:chOff x="4952520" y="3276720"/>
            <a:chExt cx="228960" cy="914400"/>
          </a:xfrm>
        </p:grpSpPr>
        <p:sp>
          <p:nvSpPr>
            <p:cNvPr id="264" name=""/>
            <p:cNvSpPr/>
            <p:nvPr/>
          </p:nvSpPr>
          <p:spPr>
            <a:xfrm>
              <a:off x="4952880" y="32767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1480" y="32767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952520" y="41911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09680" y="3581280"/>
            <a:ext cx="2721240" cy="764640"/>
            <a:chOff x="2209680" y="3581280"/>
            <a:chExt cx="2721240" cy="764640"/>
          </a:xfrm>
        </p:grpSpPr>
        <p:sp>
          <p:nvSpPr>
            <p:cNvPr id="268" name=""/>
            <p:cNvSpPr/>
            <p:nvPr/>
          </p:nvSpPr>
          <p:spPr>
            <a:xfrm>
              <a:off x="2514600" y="358128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4320" y="3886200"/>
              <a:ext cx="20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9680" y="4343400"/>
              <a:ext cx="266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562720" y="2971800"/>
            <a:ext cx="35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opposite of each term in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63440" y="42670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Eliminate the y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64520" y="4724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3440" y="426708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 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051000" y="4724280"/>
            <a:ext cx="1901880" cy="916920"/>
            <a:chOff x="3051000" y="4724280"/>
            <a:chExt cx="1901880" cy="916920"/>
          </a:xfrm>
        </p:grpSpPr>
        <p:sp>
          <p:nvSpPr>
            <p:cNvPr id="276" name=""/>
            <p:cNvSpPr/>
            <p:nvPr/>
          </p:nvSpPr>
          <p:spPr>
            <a:xfrm>
              <a:off x="3051000" y="472428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=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8720" y="51814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57200" y="42670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35080" y="350532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72040" y="18288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71680" y="25146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72040" y="320040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1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57200" y="1981080"/>
            <a:ext cx="3716280" cy="459720"/>
            <a:chOff x="457200" y="1981080"/>
            <a:chExt cx="3716280" cy="459720"/>
          </a:xfrm>
        </p:grpSpPr>
        <p:sp>
          <p:nvSpPr>
            <p:cNvPr id="285" name=""/>
            <p:cNvSpPr/>
            <p:nvPr/>
          </p:nvSpPr>
          <p:spPr>
            <a:xfrm>
              <a:off x="457200" y="19810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43240" y="1981080"/>
              <a:ext cx="18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121120" y="2514600"/>
            <a:ext cx="20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4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058840" y="3124080"/>
            <a:ext cx="2286000" cy="1221480"/>
            <a:chOff x="2058840" y="3124080"/>
            <a:chExt cx="2286000" cy="1221480"/>
          </a:xfrm>
        </p:grpSpPr>
        <p:sp>
          <p:nvSpPr>
            <p:cNvPr id="289" name=""/>
            <p:cNvSpPr/>
            <p:nvPr/>
          </p:nvSpPr>
          <p:spPr>
            <a:xfrm>
              <a:off x="2336760" y="3124080"/>
              <a:ext cx="185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31560" y="35366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2           –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8840" y="3962160"/>
              <a:ext cx="6098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5360" y="396216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97440" y="3885840"/>
              <a:ext cx="10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265560" y="434340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4200" y="39625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4876920"/>
            <a:ext cx="8516880" cy="841320"/>
            <a:chOff x="457200" y="4876920"/>
            <a:chExt cx="8516880" cy="841320"/>
          </a:xfrm>
        </p:grpSpPr>
        <p:sp>
          <p:nvSpPr>
            <p:cNvPr id="297" name=""/>
            <p:cNvSpPr/>
            <p:nvPr/>
          </p:nvSpPr>
          <p:spPr>
            <a:xfrm>
              <a:off x="5072040" y="4892760"/>
              <a:ext cx="390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Write the solution as an ordered pai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24080" y="4876920"/>
              <a:ext cx="119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" y="487692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14400" y="204300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ome cases, you will first need to multiply one or both of the equations by a number so that one variable has opposite coefficients. This will be the new Step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205740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12720" y="2438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47440" y="152388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Elimination Using Multiplica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2927520"/>
            <a:ext cx="431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each term in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to get opposite y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04920" y="3048120"/>
            <a:ext cx="4473360" cy="840600"/>
            <a:chOff x="304920" y="3048120"/>
            <a:chExt cx="4473360" cy="840600"/>
          </a:xfrm>
        </p:grpSpPr>
        <p:sp>
          <p:nvSpPr>
            <p:cNvPr id="308" name=""/>
            <p:cNvSpPr/>
            <p:nvPr/>
          </p:nvSpPr>
          <p:spPr>
            <a:xfrm>
              <a:off x="2362320" y="304812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920" y="30528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60840" y="3429000"/>
              <a:ext cx="23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600200" y="3276720"/>
            <a:ext cx="685440" cy="914400"/>
            <a:chOff x="1600200" y="3276720"/>
            <a:chExt cx="685440" cy="914400"/>
          </a:xfrm>
        </p:grpSpPr>
        <p:sp>
          <p:nvSpPr>
            <p:cNvPr id="312" name=""/>
            <p:cNvSpPr/>
            <p:nvPr/>
          </p:nvSpPr>
          <p:spPr>
            <a:xfrm flipH="1">
              <a:off x="1600200" y="3276720"/>
              <a:ext cx="68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00200" y="32767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00200" y="4191120"/>
              <a:ext cx="58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723920" y="3657600"/>
            <a:ext cx="228960" cy="914400"/>
            <a:chOff x="4723920" y="3657600"/>
            <a:chExt cx="228960" cy="914400"/>
          </a:xfrm>
        </p:grpSpPr>
        <p:sp>
          <p:nvSpPr>
            <p:cNvPr id="316" name=""/>
            <p:cNvSpPr/>
            <p:nvPr/>
          </p:nvSpPr>
          <p:spPr>
            <a:xfrm>
              <a:off x="4724280" y="3657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52880" y="36576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723920" y="45720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981080" y="3929040"/>
            <a:ext cx="2797200" cy="871560"/>
            <a:chOff x="1981080" y="3929040"/>
            <a:chExt cx="2797200" cy="871560"/>
          </a:xfrm>
        </p:grpSpPr>
        <p:sp>
          <p:nvSpPr>
            <p:cNvPr id="320" name=""/>
            <p:cNvSpPr/>
            <p:nvPr/>
          </p:nvSpPr>
          <p:spPr>
            <a:xfrm>
              <a:off x="2362320" y="392904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05360" y="4314960"/>
              <a:ext cx="22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81080" y="4800600"/>
              <a:ext cx="274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105520" y="4282920"/>
            <a:ext cx="35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 to the first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75560" y="4756320"/>
            <a:ext cx="19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+   0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04920" y="5181480"/>
            <a:ext cx="4168800" cy="916920"/>
            <a:chOff x="304920" y="5181480"/>
            <a:chExt cx="4168800" cy="916920"/>
          </a:xfrm>
        </p:grpSpPr>
        <p:sp>
          <p:nvSpPr>
            <p:cNvPr id="326" name=""/>
            <p:cNvSpPr/>
            <p:nvPr/>
          </p:nvSpPr>
          <p:spPr>
            <a:xfrm>
              <a:off x="304920" y="518148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46760" y="5181480"/>
              <a:ext cx="118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0400" y="563868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105520" y="5181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38862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90720"/>
            <a:ext cx="830592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 each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+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3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(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67960" y="2237760"/>
            <a:ext cx="7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69560" y="279000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7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47680" y="3380760"/>
            <a:ext cx="3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5240" y="4019400"/>
            <a:ext cx="7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3680" y="4572000"/>
            <a:ext cx="61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least common mult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2280" y="51195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2280" y="572940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47480" y="51339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47480" y="572940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9840" y="512928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and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59840" y="57294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28880" y="513396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17360" y="57294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03680" y="5129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4000" y="5729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040" y="51339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2360" y="5743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190512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059120" y="2070000"/>
            <a:ext cx="3436560" cy="462960"/>
            <a:chOff x="1059120" y="2070000"/>
            <a:chExt cx="3436560" cy="462960"/>
          </a:xfrm>
        </p:grpSpPr>
        <p:sp>
          <p:nvSpPr>
            <p:cNvPr id="334" name=""/>
            <p:cNvSpPr/>
            <p:nvPr/>
          </p:nvSpPr>
          <p:spPr>
            <a:xfrm>
              <a:off x="1059120" y="207324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08320" y="2070000"/>
              <a:ext cx="21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028120" y="2575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3 for 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2575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29560" y="29559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3 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133720" y="2911320"/>
            <a:ext cx="2286000" cy="856440"/>
            <a:chOff x="2133720" y="2911320"/>
            <a:chExt cx="2286000" cy="856440"/>
          </a:xfrm>
        </p:grpSpPr>
        <p:sp>
          <p:nvSpPr>
            <p:cNvPr id="340" name=""/>
            <p:cNvSpPr/>
            <p:nvPr/>
          </p:nvSpPr>
          <p:spPr>
            <a:xfrm>
              <a:off x="2292480" y="2911320"/>
              <a:ext cx="178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            –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333684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6200" y="33368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15000" y="330804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281400" y="37180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31000" y="33526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4343400"/>
            <a:ext cx="38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074960" y="4327560"/>
            <a:ext cx="2545920" cy="459720"/>
            <a:chOff x="1074960" y="4327560"/>
            <a:chExt cx="2545920" cy="459720"/>
          </a:xfrm>
        </p:grpSpPr>
        <p:sp>
          <p:nvSpPr>
            <p:cNvPr id="348" name=""/>
            <p:cNvSpPr/>
            <p:nvPr/>
          </p:nvSpPr>
          <p:spPr>
            <a:xfrm>
              <a:off x="1074960" y="43275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47880" y="432756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41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96400" y="251460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7440" y="152388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Elimination Using Multiplica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17760" y="3200400"/>
            <a:ext cx="4563720" cy="885240"/>
            <a:chOff x="617760" y="3200400"/>
            <a:chExt cx="4563720" cy="885240"/>
          </a:xfrm>
        </p:grpSpPr>
        <p:sp>
          <p:nvSpPr>
            <p:cNvPr id="356" name=""/>
            <p:cNvSpPr/>
            <p:nvPr/>
          </p:nvSpPr>
          <p:spPr>
            <a:xfrm>
              <a:off x="617760" y="32004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55680" y="324468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00120" y="3625920"/>
              <a:ext cx="23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486400" y="3048120"/>
            <a:ext cx="37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first equation by 2 and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5 to get opposite x-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295360" y="4114800"/>
            <a:ext cx="2733840" cy="957240"/>
            <a:chOff x="2295360" y="4114800"/>
            <a:chExt cx="2733840" cy="957240"/>
          </a:xfrm>
        </p:grpSpPr>
        <p:sp>
          <p:nvSpPr>
            <p:cNvPr id="361" name=""/>
            <p:cNvSpPr/>
            <p:nvPr/>
          </p:nvSpPr>
          <p:spPr>
            <a:xfrm>
              <a:off x="2554920" y="4114800"/>
              <a:ext cx="21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95360" y="4572000"/>
              <a:ext cx="25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5072040"/>
              <a:ext cx="259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828800" y="3473280"/>
            <a:ext cx="380880" cy="914400"/>
            <a:chOff x="1828800" y="3473280"/>
            <a:chExt cx="380880" cy="914400"/>
          </a:xfrm>
        </p:grpSpPr>
        <p:sp>
          <p:nvSpPr>
            <p:cNvPr id="365" name=""/>
            <p:cNvSpPr/>
            <p:nvPr/>
          </p:nvSpPr>
          <p:spPr>
            <a:xfrm flipH="1">
              <a:off x="1828800" y="34732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8800" y="3473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28800" y="4387680"/>
              <a:ext cx="32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105160" y="3897360"/>
            <a:ext cx="228960" cy="914400"/>
            <a:chOff x="5105160" y="3897360"/>
            <a:chExt cx="228960" cy="914400"/>
          </a:xfrm>
        </p:grpSpPr>
        <p:sp>
          <p:nvSpPr>
            <p:cNvPr id="369" name=""/>
            <p:cNvSpPr/>
            <p:nvPr/>
          </p:nvSpPr>
          <p:spPr>
            <a:xfrm>
              <a:off x="5105520" y="38973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4120" y="38973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105160" y="4811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490000" y="4687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86400" y="518148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26200" y="510552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86200" y="55627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760" y="5105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035080" y="411480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72040" y="18288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93720" y="1901880"/>
            <a:ext cx="3953880" cy="462600"/>
            <a:chOff x="693720" y="1901880"/>
            <a:chExt cx="3953880" cy="462600"/>
          </a:xfrm>
        </p:grpSpPr>
        <p:sp>
          <p:nvSpPr>
            <p:cNvPr id="381" name=""/>
            <p:cNvSpPr/>
            <p:nvPr/>
          </p:nvSpPr>
          <p:spPr>
            <a:xfrm>
              <a:off x="693720" y="19047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38760" y="1901880"/>
              <a:ext cx="250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070960" y="251784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6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05120" y="2438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72040" y="333684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18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45520" y="3213000"/>
            <a:ext cx="1474200" cy="936000"/>
            <a:chOff x="2945520" y="3213000"/>
            <a:chExt cx="1474200" cy="936000"/>
          </a:xfrm>
        </p:grpSpPr>
        <p:sp>
          <p:nvSpPr>
            <p:cNvPr id="387" name=""/>
            <p:cNvSpPr/>
            <p:nvPr/>
          </p:nvSpPr>
          <p:spPr>
            <a:xfrm>
              <a:off x="2945520" y="3213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8   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8120" y="36385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86200" y="363852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42800" y="3689280"/>
              <a:ext cx="124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209680" y="2879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52040" y="409896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72040" y="409896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70040" y="4511520"/>
            <a:ext cx="8051400" cy="885960"/>
            <a:chOff x="770040" y="4511520"/>
            <a:chExt cx="8051400" cy="885960"/>
          </a:xfrm>
        </p:grpSpPr>
        <p:sp>
          <p:nvSpPr>
            <p:cNvPr id="395" name=""/>
            <p:cNvSpPr/>
            <p:nvPr/>
          </p:nvSpPr>
          <p:spPr>
            <a:xfrm>
              <a:off x="770040" y="45561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95720" y="4572000"/>
              <a:ext cx="382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11400" y="4511520"/>
              <a:ext cx="110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93440" y="147960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67080" y="25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752480" y="3352680"/>
            <a:ext cx="381240" cy="914400"/>
            <a:chOff x="1752480" y="3352680"/>
            <a:chExt cx="381240" cy="914400"/>
          </a:xfrm>
        </p:grpSpPr>
        <p:sp>
          <p:nvSpPr>
            <p:cNvPr id="404" name=""/>
            <p:cNvSpPr/>
            <p:nvPr/>
          </p:nvSpPr>
          <p:spPr>
            <a:xfrm flipH="1">
              <a:off x="1752480" y="3352680"/>
              <a:ext cx="296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52480" y="33526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52480" y="42670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572000" y="3733920"/>
            <a:ext cx="304920" cy="914400"/>
            <a:chOff x="4572000" y="3733920"/>
            <a:chExt cx="304920" cy="914400"/>
          </a:xfrm>
        </p:grpSpPr>
        <p:sp>
          <p:nvSpPr>
            <p:cNvPr id="408" name=""/>
            <p:cNvSpPr/>
            <p:nvPr/>
          </p:nvSpPr>
          <p:spPr>
            <a:xfrm>
              <a:off x="4876920" y="37339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647960" y="46483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2000" y="3747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80880" y="3124080"/>
            <a:ext cx="4038840" cy="855000"/>
            <a:chOff x="380880" y="3124080"/>
            <a:chExt cx="4038840" cy="855000"/>
          </a:xfrm>
        </p:grpSpPr>
        <p:sp>
          <p:nvSpPr>
            <p:cNvPr id="412" name=""/>
            <p:cNvSpPr/>
            <p:nvPr/>
          </p:nvSpPr>
          <p:spPr>
            <a:xfrm>
              <a:off x="380880" y="31240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55680" y="313848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25520" y="3519360"/>
              <a:ext cx="19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719360" y="4038480"/>
            <a:ext cx="3047760" cy="1329840"/>
            <a:chOff x="1719360" y="4038480"/>
            <a:chExt cx="3047760" cy="1329840"/>
          </a:xfrm>
        </p:grpSpPr>
        <p:sp>
          <p:nvSpPr>
            <p:cNvPr id="416" name=""/>
            <p:cNvSpPr/>
            <p:nvPr/>
          </p:nvSpPr>
          <p:spPr>
            <a:xfrm>
              <a:off x="2174760" y="403848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39960" y="4448160"/>
              <a:ext cx="23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–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19360" y="4919760"/>
              <a:ext cx="30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21560" y="490860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+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894200" y="292752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each term in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to get opposite x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94200" y="4359240"/>
            <a:ext cx="355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 to the first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74840" y="5410080"/>
            <a:ext cx="7902360" cy="916920"/>
            <a:chOff x="474840" y="5410080"/>
            <a:chExt cx="7902360" cy="916920"/>
          </a:xfrm>
        </p:grpSpPr>
        <p:sp>
          <p:nvSpPr>
            <p:cNvPr id="423" name=""/>
            <p:cNvSpPr/>
            <p:nvPr/>
          </p:nvSpPr>
          <p:spPr>
            <a:xfrm>
              <a:off x="4894200" y="5457960"/>
              <a:ext cx="348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Simplify and solve for 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11840" y="5410080"/>
              <a:ext cx="10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78160" y="586728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4840" y="5410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752480" y="396252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2040" y="1844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846360" y="2009880"/>
            <a:ext cx="3664800" cy="462600"/>
            <a:chOff x="846360" y="2009880"/>
            <a:chExt cx="3664800" cy="462600"/>
          </a:xfrm>
        </p:grpSpPr>
        <p:sp>
          <p:nvSpPr>
            <p:cNvPr id="431" name=""/>
            <p:cNvSpPr/>
            <p:nvPr/>
          </p:nvSpPr>
          <p:spPr>
            <a:xfrm>
              <a:off x="846360" y="20127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81960" y="2009880"/>
              <a:ext cx="23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070960" y="25336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0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43120" y="2514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0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8124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83680" y="342900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72040" y="297180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846360" y="4267080"/>
            <a:ext cx="8051400" cy="841320"/>
            <a:chOff x="846360" y="4267080"/>
            <a:chExt cx="8051400" cy="841320"/>
          </a:xfrm>
        </p:grpSpPr>
        <p:sp>
          <p:nvSpPr>
            <p:cNvPr id="439" name=""/>
            <p:cNvSpPr/>
            <p:nvPr/>
          </p:nvSpPr>
          <p:spPr>
            <a:xfrm>
              <a:off x="846360" y="4267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72040" y="4282920"/>
              <a:ext cx="382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67200" y="431496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142440" y="380988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04640" y="147960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41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19640" y="25146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89160" y="3200400"/>
            <a:ext cx="5020920" cy="504000"/>
            <a:chOff x="389160" y="3200400"/>
            <a:chExt cx="5020920" cy="504000"/>
          </a:xfrm>
        </p:grpSpPr>
        <p:sp>
          <p:nvSpPr>
            <p:cNvPr id="449" name=""/>
            <p:cNvSpPr/>
            <p:nvPr/>
          </p:nvSpPr>
          <p:spPr>
            <a:xfrm>
              <a:off x="389160" y="32004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32000" y="3244680"/>
              <a:ext cx="31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851120" y="362592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22760" y="3048120"/>
            <a:ext cx="37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first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and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2 to get opposite x-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734560" y="41148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56720" y="457200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(–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409720" y="3897360"/>
            <a:ext cx="228960" cy="914400"/>
            <a:chOff x="5409720" y="3897360"/>
            <a:chExt cx="228960" cy="914400"/>
          </a:xfrm>
        </p:grpSpPr>
        <p:sp>
          <p:nvSpPr>
            <p:cNvPr id="456" name=""/>
            <p:cNvSpPr/>
            <p:nvPr/>
          </p:nvSpPr>
          <p:spPr>
            <a:xfrm>
              <a:off x="5410080" y="38973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8973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409720" y="4811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557360" y="3457440"/>
            <a:ext cx="700200" cy="947880"/>
            <a:chOff x="1557360" y="3457440"/>
            <a:chExt cx="700200" cy="947880"/>
          </a:xfrm>
        </p:grpSpPr>
        <p:sp>
          <p:nvSpPr>
            <p:cNvPr id="460" name=""/>
            <p:cNvSpPr/>
            <p:nvPr/>
          </p:nvSpPr>
          <p:spPr>
            <a:xfrm>
              <a:off x="1571760" y="3473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71760" y="44053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57360" y="34574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526720" y="46483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22760" y="548640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10040" y="548640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89160" y="5029200"/>
            <a:ext cx="5020920" cy="491400"/>
            <a:chOff x="389160" y="5029200"/>
            <a:chExt cx="5020920" cy="491400"/>
          </a:xfrm>
        </p:grpSpPr>
        <p:sp>
          <p:nvSpPr>
            <p:cNvPr id="467" name=""/>
            <p:cNvSpPr/>
            <p:nvPr/>
          </p:nvSpPr>
          <p:spPr>
            <a:xfrm>
              <a:off x="2548080" y="502920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00440" y="5060880"/>
              <a:ext cx="26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+ 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9160" y="5029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1600200" y="411480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41840" y="1752480"/>
            <a:ext cx="34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846360" y="1917720"/>
            <a:ext cx="3725640" cy="462960"/>
            <a:chOff x="846360" y="1917720"/>
            <a:chExt cx="3725640" cy="462960"/>
          </a:xfrm>
        </p:grpSpPr>
        <p:sp>
          <p:nvSpPr>
            <p:cNvPr id="474" name=""/>
            <p:cNvSpPr/>
            <p:nvPr/>
          </p:nvSpPr>
          <p:spPr>
            <a:xfrm>
              <a:off x="846360" y="19209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82680" y="1917720"/>
              <a:ext cx="23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5541840" y="24415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4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05120" y="24224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4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41840" y="3718080"/>
            <a:ext cx="35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846360" y="4419720"/>
            <a:ext cx="8292960" cy="825480"/>
            <a:chOff x="846360" y="4419720"/>
            <a:chExt cx="8292960" cy="825480"/>
          </a:xfrm>
        </p:grpSpPr>
        <p:sp>
          <p:nvSpPr>
            <p:cNvPr id="480" name=""/>
            <p:cNvSpPr/>
            <p:nvPr/>
          </p:nvSpPr>
          <p:spPr>
            <a:xfrm>
              <a:off x="846360" y="443232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41840" y="4419720"/>
              <a:ext cx="359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67200" y="446076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294720" y="402264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181240" y="2879640"/>
            <a:ext cx="2590920" cy="1221840"/>
            <a:chOff x="2181240" y="2879640"/>
            <a:chExt cx="2590920" cy="1221840"/>
          </a:xfrm>
        </p:grpSpPr>
        <p:sp>
          <p:nvSpPr>
            <p:cNvPr id="485" name=""/>
            <p:cNvSpPr/>
            <p:nvPr/>
          </p:nvSpPr>
          <p:spPr>
            <a:xfrm>
              <a:off x="2181240" y="28796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13040" y="323208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0   –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71800" y="364176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86200" y="367488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38280" y="3641760"/>
              <a:ext cx="20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    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541840" y="2955960"/>
            <a:ext cx="355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20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15238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ige has $7.75 to buy 12 sheets of felt and card stock for her scrapbook. The felt costs $0.50 per sheet, and the card stock costs $0.75 per sheet. How many sheets of each can Paige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3516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. 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felt sheet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card stock she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68760" y="47196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729320" y="4719600"/>
            <a:ext cx="393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cost of felt and card stock totals $7.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48172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+ c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29320" y="548640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otal number of sheets is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2840" y="17082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35600" y="17334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8440" y="22096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0.5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+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248440" y="17524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0.50 to get opposite f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538280" y="2023920"/>
            <a:ext cx="700200" cy="947880"/>
            <a:chOff x="1538280" y="2023920"/>
            <a:chExt cx="700200" cy="947880"/>
          </a:xfrm>
        </p:grpSpPr>
        <p:sp>
          <p:nvSpPr>
            <p:cNvPr id="504" name=""/>
            <p:cNvSpPr/>
            <p:nvPr/>
          </p:nvSpPr>
          <p:spPr>
            <a:xfrm>
              <a:off x="1552680" y="20397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52680" y="29718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38280" y="2023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2478600" y="27432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09440" y="312408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105520" y="2438280"/>
            <a:ext cx="533160" cy="914400"/>
            <a:chOff x="5105520" y="2438280"/>
            <a:chExt cx="533160" cy="914400"/>
          </a:xfrm>
        </p:grpSpPr>
        <p:sp>
          <p:nvSpPr>
            <p:cNvPr id="510" name=""/>
            <p:cNvSpPr/>
            <p:nvPr/>
          </p:nvSpPr>
          <p:spPr>
            <a:xfrm>
              <a:off x="5105520" y="24382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38680" y="2438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410080" y="3352680"/>
              <a:ext cx="22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622840" y="293544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is equation to the first equation to eliminate the f-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50240" y="40384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2840" y="35812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600200" y="3519360"/>
            <a:ext cx="3698640" cy="459720"/>
            <a:chOff x="1600200" y="3519360"/>
            <a:chExt cx="3698640" cy="459720"/>
          </a:xfrm>
        </p:grpSpPr>
        <p:sp>
          <p:nvSpPr>
            <p:cNvPr id="517" name=""/>
            <p:cNvSpPr/>
            <p:nvPr/>
          </p:nvSpPr>
          <p:spPr>
            <a:xfrm>
              <a:off x="1600200" y="3581280"/>
              <a:ext cx="365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40520" y="3519360"/>
              <a:ext cx="185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.2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.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858120" y="4038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12840" y="46483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28920" y="46483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99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48080" y="53341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7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93640" y="5334120"/>
            <a:ext cx="14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445920" y="5791320"/>
            <a:ext cx="1522440" cy="840600"/>
            <a:chOff x="3445920" y="5791320"/>
            <a:chExt cx="1522440" cy="840600"/>
          </a:xfrm>
        </p:grpSpPr>
        <p:sp>
          <p:nvSpPr>
            <p:cNvPr id="525" name=""/>
            <p:cNvSpPr/>
            <p:nvPr/>
          </p:nvSpPr>
          <p:spPr>
            <a:xfrm>
              <a:off x="3625200" y="579132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    –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20800" y="621648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35200" y="621648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45920" y="6172200"/>
              <a:ext cx="12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f      =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248440" y="5802480"/>
            <a:ext cx="41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7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00200" y="266688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48440" y="458784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572000" y="16002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41280" y="1616040"/>
            <a:ext cx="2850840" cy="489960"/>
            <a:chOff x="341280" y="1616040"/>
            <a:chExt cx="2850840" cy="489960"/>
          </a:xfrm>
        </p:grpSpPr>
        <p:sp>
          <p:nvSpPr>
            <p:cNvPr id="534" name=""/>
            <p:cNvSpPr/>
            <p:nvPr/>
          </p:nvSpPr>
          <p:spPr>
            <a:xfrm>
              <a:off x="341280" y="16462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19480" y="161604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7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90560" y="234648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ige can buy 7 sheets of card stock and 5 sheets of f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1905120"/>
            <a:ext cx="8382240" cy="2666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systems of linear equations in two variables by elim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and choose an appropriate method for solving systems of linear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1447920"/>
            <a:ext cx="824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hat if…?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lly spent $14.85 to buy 13 flowers. She bought lilies, which cost $1.25 each, and tulips, which cost $0.90 each. How many of each flower did Sally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3520" y="320040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. 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lilie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tuli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3680" y="4398840"/>
            <a:ext cx="30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24400" y="4398840"/>
            <a:ext cx="39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cost of lilies and tulips totals $14.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148480" y="516564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24400" y="516564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otal number of flowers is 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0560" y="1676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37600" y="170172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67880" y="21337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.9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4120" y="17208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0.90 to get opposite t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42640" y="2711520"/>
            <a:ext cx="30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62320" y="309240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11.70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622840" y="323208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is equation to the first equation to eliminate the t-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25360" y="44197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560" y="43434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371600" y="3487680"/>
            <a:ext cx="3657600" cy="459720"/>
            <a:chOff x="1371600" y="3487680"/>
            <a:chExt cx="3657600" cy="459720"/>
          </a:xfrm>
        </p:grpSpPr>
        <p:sp>
          <p:nvSpPr>
            <p:cNvPr id="556" name=""/>
            <p:cNvSpPr/>
            <p:nvPr/>
          </p:nvSpPr>
          <p:spPr>
            <a:xfrm>
              <a:off x="1371600" y="3549600"/>
              <a:ext cx="365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16960" y="3487680"/>
              <a:ext cx="179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.3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.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679200" y="48006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= 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800600" y="2405160"/>
            <a:ext cx="914400" cy="914400"/>
            <a:chOff x="4800600" y="2405160"/>
            <a:chExt cx="914400" cy="914400"/>
          </a:xfrm>
        </p:grpSpPr>
        <p:sp>
          <p:nvSpPr>
            <p:cNvPr id="560" name=""/>
            <p:cNvSpPr/>
            <p:nvPr/>
          </p:nvSpPr>
          <p:spPr>
            <a:xfrm>
              <a:off x="5715000" y="24051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562360" y="33098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800600" y="24051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295280" y="1992240"/>
            <a:ext cx="457200" cy="930240"/>
            <a:chOff x="1295280" y="1992240"/>
            <a:chExt cx="457200" cy="930240"/>
          </a:xfrm>
        </p:grpSpPr>
        <p:sp>
          <p:nvSpPr>
            <p:cNvPr id="564" name=""/>
            <p:cNvSpPr/>
            <p:nvPr/>
          </p:nvSpPr>
          <p:spPr>
            <a:xfrm>
              <a:off x="1309680" y="20080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95280" y="19922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95280" y="29145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371600" y="25909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638680" y="41911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312840" y="4206960"/>
            <a:ext cx="2850840" cy="489960"/>
            <a:chOff x="312840" y="4206960"/>
            <a:chExt cx="2850840" cy="489960"/>
          </a:xfrm>
        </p:grpSpPr>
        <p:sp>
          <p:nvSpPr>
            <p:cNvPr id="571" name=""/>
            <p:cNvSpPr/>
            <p:nvPr/>
          </p:nvSpPr>
          <p:spPr>
            <a:xfrm>
              <a:off x="312840" y="4237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91040" y="420696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9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992520" y="5334120"/>
            <a:ext cx="47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lly bought 9 lilies and 4 tul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0560" y="21016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638680" y="2057400"/>
            <a:ext cx="46260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639040" y="27432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9 for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06720" y="2558880"/>
            <a:ext cx="14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557440" y="2895480"/>
            <a:ext cx="2014560" cy="459720"/>
            <a:chOff x="2557440" y="2895480"/>
            <a:chExt cx="2014560" cy="459720"/>
          </a:xfrm>
        </p:grpSpPr>
        <p:sp>
          <p:nvSpPr>
            <p:cNvPr id="579" name=""/>
            <p:cNvSpPr/>
            <p:nvPr/>
          </p:nvSpPr>
          <p:spPr>
            <a:xfrm>
              <a:off x="2805120" y="289548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         –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57440" y="33206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38480" y="33206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3483720" y="327672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 =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638680" y="3124080"/>
            <a:ext cx="347976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9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53240" y="213372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38080" y="16765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ystems can be solved in more than one way. For some systems, some methods may be better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488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0880" y="1198800"/>
            <a:ext cx="792504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each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62520" y="31280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–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05320" y="1908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11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038480" y="4194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–3, –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175752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28242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39672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50640" y="1712880"/>
            <a:ext cx="16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45240" y="2138400"/>
            <a:ext cx="18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245960" y="3205080"/>
            <a:ext cx="16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303560" y="282420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317960" y="396720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83040" y="43480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49244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lan has $44 to buy 7 pairs of socks. Athletic socks cost $5 per pair. Dress socks cost $8 per pair. How many pairs of each can Harlan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62120" y="6095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 pairs of athletic socks and 3 pairs of dress s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98560" y="1251000"/>
            <a:ext cx="763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ther method for solving systems of equations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imination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ke substitution, the goal of elimination is to get one equation that has only one variable. To do this by elimination, you add the two equations in the system toge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873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an equation stays balanced if you add equal amounts to both sides. So, i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 =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ad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one side of an equation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the other side and the balance is mai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3079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pposite coeffici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 is eliminated. The result is one equation that has only one variable: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8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9960" y="4330800"/>
            <a:ext cx="84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use the elimination method to solve a system of linear equations, align all like terms in the equations. Then determine whether any like terms can be eliminated because they have opposite coefficient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62320" y="936720"/>
            <a:ext cx="39621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4167360"/>
            <a:ext cx="784872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165480"/>
            <a:ext cx="7848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162160"/>
            <a:ext cx="7848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16216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1654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1673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162160"/>
            <a:ext cx="0" cy="4162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458200" y="2162160"/>
            <a:ext cx="0" cy="4162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7848720" cy="11066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17332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0" cy="110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1066680"/>
            <a:ext cx="0" cy="110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44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ing Systems of Equations by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2286000"/>
            <a:ext cx="7102440" cy="825480"/>
            <a:chOff x="838080" y="2286000"/>
            <a:chExt cx="7102440" cy="825480"/>
          </a:xfrm>
        </p:grpSpPr>
        <p:sp>
          <p:nvSpPr>
            <p:cNvPr id="93" name=""/>
            <p:cNvSpPr/>
            <p:nvPr/>
          </p:nvSpPr>
          <p:spPr>
            <a:xfrm>
              <a:off x="838080" y="233064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38280" y="2286000"/>
              <a:ext cx="550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rite the system so that like terms are align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38080" y="3232080"/>
            <a:ext cx="7102440" cy="825480"/>
            <a:chOff x="838080" y="3232080"/>
            <a:chExt cx="7102440" cy="825480"/>
          </a:xfrm>
        </p:grpSpPr>
        <p:sp>
          <p:nvSpPr>
            <p:cNvPr id="96" name=""/>
            <p:cNvSpPr/>
            <p:nvPr/>
          </p:nvSpPr>
          <p:spPr>
            <a:xfrm>
              <a:off x="838080" y="338760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3232080"/>
              <a:ext cx="550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iminate one of the variables and solve for the other variab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38080" y="4103640"/>
            <a:ext cx="7315200" cy="1191240"/>
            <a:chOff x="838080" y="4103640"/>
            <a:chExt cx="7315200" cy="1191240"/>
          </a:xfrm>
        </p:grpSpPr>
        <p:sp>
          <p:nvSpPr>
            <p:cNvPr id="99" name=""/>
            <p:cNvSpPr/>
            <p:nvPr/>
          </p:nvSpPr>
          <p:spPr>
            <a:xfrm>
              <a:off x="838080" y="451620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8280" y="4103640"/>
              <a:ext cx="571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the value of the variable into one of the original equations and solve for the other variab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09480" y="53211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56272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3499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answers from Steps 2 and 3 as an ordered pair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and chec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98560" y="1814400"/>
            <a:ext cx="733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ter in this lesson you will learn how to multiply one or more equations by a number in order to produce opposites that can be elim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Elimination Using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51120" y="19051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00960" y="22860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1640" y="20890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61000" y="2924280"/>
            <a:ext cx="3370320" cy="462960"/>
            <a:chOff x="1161000" y="2924280"/>
            <a:chExt cx="3370320" cy="462960"/>
          </a:xfrm>
        </p:grpSpPr>
        <p:sp>
          <p:nvSpPr>
            <p:cNvPr id="112" name=""/>
            <p:cNvSpPr/>
            <p:nvPr/>
          </p:nvSpPr>
          <p:spPr>
            <a:xfrm>
              <a:off x="1161000" y="292428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6760" y="2927520"/>
              <a:ext cx="183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8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394240" y="291132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ystem so that like terms ar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4240" y="36212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e equations to eliminate the y-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43434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0" y="43434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05920" y="327672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7339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5000" y="3686040"/>
            <a:ext cx="18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0  =  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76840" y="3657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7840" y="49528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352680" y="4800600"/>
            <a:ext cx="1501920" cy="1221840"/>
            <a:chOff x="3352680" y="4800600"/>
            <a:chExt cx="1501920" cy="1221840"/>
          </a:xfrm>
        </p:grpSpPr>
        <p:sp>
          <p:nvSpPr>
            <p:cNvPr id="124" name=""/>
            <p:cNvSpPr/>
            <p:nvPr/>
          </p:nvSpPr>
          <p:spPr>
            <a:xfrm>
              <a:off x="3352680" y="48006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9000" y="52387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522936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60320" y="518148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   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46360" y="556272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76840" y="1905120"/>
            <a:ext cx="3318840" cy="459720"/>
            <a:chOff x="1176840" y="1905120"/>
            <a:chExt cx="3318840" cy="459720"/>
          </a:xfrm>
        </p:grpSpPr>
        <p:sp>
          <p:nvSpPr>
            <p:cNvPr id="131" name=""/>
            <p:cNvSpPr/>
            <p:nvPr/>
          </p:nvSpPr>
          <p:spPr>
            <a:xfrm>
              <a:off x="1176840" y="19051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2320" y="19051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9370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89680" y="1944720"/>
            <a:ext cx="40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2666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89320" y="27097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2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33720" y="3048120"/>
            <a:ext cx="2415960" cy="916920"/>
            <a:chOff x="2133720" y="3048120"/>
            <a:chExt cx="2415960" cy="916920"/>
          </a:xfrm>
        </p:grpSpPr>
        <p:sp>
          <p:nvSpPr>
            <p:cNvPr id="138" name=""/>
            <p:cNvSpPr/>
            <p:nvPr/>
          </p:nvSpPr>
          <p:spPr>
            <a:xfrm>
              <a:off x="2133720" y="304812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           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38480" y="34765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62520" y="34765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6240" y="3505320"/>
              <a:ext cx="115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090960" y="3962520"/>
            <a:ext cx="1452600" cy="1221480"/>
            <a:chOff x="3090960" y="3962520"/>
            <a:chExt cx="1452600" cy="1221480"/>
          </a:xfrm>
        </p:grpSpPr>
        <p:sp>
          <p:nvSpPr>
            <p:cNvPr id="143" name=""/>
            <p:cNvSpPr/>
            <p:nvPr/>
          </p:nvSpPr>
          <p:spPr>
            <a:xfrm>
              <a:off x="3138120" y="396252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90960" y="44197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62520" y="44197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55760" y="4362480"/>
              <a:ext cx="116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93920" y="47242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318320" y="525780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4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,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89680" y="31240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93280" y="41911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89680" y="527364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2T16:18:01Z</dcterms:modified>
  <cp:revision>68</cp:revision>
  <dc:subject/>
  <dc:title>Slide 1</dc:title>
</cp:coreProperties>
</file>